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E1E-C037-4DB0-8E03-9BA2A705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CC1-5252-4938-B7D6-18E20BC0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85C-428B-4A5D-AC70-1E5A4251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951-CFA4-48C8-94D2-36FAE48D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C900-E22F-4B37-B13F-A374012E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72B6-D88F-4FAF-9E5C-EE10A05E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A1A9-6A9F-41A4-93D2-5145A17D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E038-C68A-425C-A96E-7E0F1D50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2B3E-A548-46CA-BE63-1CDA2184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FF42-ADB1-475F-819C-4ECD9295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6441-6707-4B9E-979A-31C1AD60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F97-A31A-494E-842B-63254613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10E3-7802-4642-9462-5FEBE33B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0CF6-B070-4990-8A5E-047F8D46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E1E4-FE2D-4CEC-B73E-7B4B7898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6E90-99C0-4423-90AA-4EC4438D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AF7F-D07C-408F-888F-FB0521FA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752-9EAE-4792-9520-1504AA66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728-CFB3-48AF-84AE-5F0E2125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C41-3DCD-4AE0-8007-5472CB92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02D-192F-4AEA-9C50-D1B46CDF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920-B1E7-45C4-85E4-3A9B2741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64D-AE6D-41EA-AFA2-017A60FC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CAD-7F40-4945-B4FF-4C6325A1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EBDE-A32F-48DC-A3DC-0BEF02FF954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B074-D44A-47FE-B79C-65A5106821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159C-47D5-4309-B634-63796E3C633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14DF-38AF-42FE-9CDC-4BA88EB1E4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360" y="1125360"/>
            <a:ext cx="482472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еторговая политика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064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26028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0A27-066A-48B0-AD7C-A269ABF44D0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2D5CBB7-C210-43E9-BEF4-59F82736793F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476280"/>
            <a:ext cx="813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алютный курс влияет эластичность спроса по цене на импортные това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личия в процентных ставках по вкладу в банк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жидания владельцев денег относительно динамики курса в будущ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213372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лютная полит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852640"/>
            <a:ext cx="79200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4558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овокупность экономических, правовых и организацио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 в области регулирования валютных отношени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нимаемых государственными органами, централь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анковскими учреждения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ждународными финансовыми организа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859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и валютная политика оформляется законами (в России Закон РФ «О валютном регулировании и валютном контроле»). Регулирование валютного курса называетс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визной политико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46B-AE98-4A4A-874E-C3337F080EEC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0FDAB-0309-4698-BDA3-D373173B52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49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ка фиксированных курсов обеспечивается валютными интервенц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341360"/>
            <a:ext cx="2781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лют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рвенц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268280"/>
            <a:ext cx="4895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ятельность Центрального банка п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упке-продаже иностранной валюты дл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ания курса национальной валю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2708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окращении валютных резервов или инфляции требуется девальвация или ревальвация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342900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Д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42900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снижение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360" y="501336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08464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повышение 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52D-612C-4631-91CA-1749339FAF05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BC9A2-A633-4C54-83A4-69C91380AD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620640"/>
            <a:ext cx="770436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струментом валютной политики являются валютные ограничения – меры, регламентирующие операции с национальной и иностранной валютой, для поддержания валютного курса и других целей (Федеральный закон РФ «О валютном регулировании и валютном контроле» 200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соглашений между государствами возникает мировая валютная система.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867г. принята Париж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золотомонетный стандарт): параллельное обращение золотых монет и банкнот, конвертируемость банкнот в золото, свободный ввоз и вывоз зол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44г. принята Бреттон-Вуд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в качестве международных денег были приняты золото и резервные валюты (доллар и фунт стерлингов). Доллар США приравнивался к золоту как эталон ценности валют и мог обмениваться на золото по официальной цене 35 долл. За 1 тройскую унц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76г. принята Ямай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отменены официальные цены золота и золотые паритеты валют, т.е. золото демонетизировалось; отменены фиксированные курсы валют; модифицированы функции МВФ как института валютного регул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9CD-6EEC-49EA-967E-C0FA3EBDD88C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75650-21CD-4005-A5C2-AF8FE185BF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404640"/>
            <a:ext cx="777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ошла в МВФ в 1992г. И стала полноправным участником современной международной валютной сис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убль является частично конвертируемой валютой с управляемо плавающим курсом. Либерализованы операции с капита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48000" y="184464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ЗЮМ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924280"/>
            <a:ext cx="8137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е хозяйство представляет собой совокупность экономик отдельных стран, связанных системой международных экономических отношений. Оно основывается на международном разделении труда. Оно включает более 200 стран и территорий, который могут быть классифицированы по различным критериям с учетом многих экономических показателей. Три основные группы: индустриальные страны, развивающиеся страны и страны с переходной экономи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жнейший элемент системы м-н отношений – международная торговля. Международные расчеты осуществляются при посредстве валютного рынка, который представлен многообразными операциями. В результате межгосударственных соглашений возникает мировая валютная сист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B8C-68FE-4580-B545-76C72C29CFCC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34FBD-0473-4B85-BB62-5B2C415753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549360"/>
            <a:ext cx="36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ритредер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3360"/>
            <a:ext cx="410364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5f5f5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нешнеторговая полити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риентированная на свобод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звитие торгов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484280"/>
            <a:ext cx="8066160" cy="13341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47г. заключено Генеральное соглашение по тарифам и торгов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страны используют комплекс мер для стимулирования и защиты рынка от внешней конкуренци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лассический инструмент протекционизма – таможенные пошл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068640"/>
            <a:ext cx="2762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моженны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шлин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3068640"/>
            <a:ext cx="5545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f5f5f"/>
              </a:gs>
              <a:gs pos="50000">
                <a:srgbClr val="0000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государственные денежные сборы, взимаем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ровозимых  через границу товаров в соответств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таможенными тарифами и в зависимости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епени обработки товара, страны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схождения и других обстоятель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013360"/>
            <a:ext cx="143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5013360"/>
            <a:ext cx="14400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мож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шл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941720"/>
            <a:ext cx="223200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я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45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652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37372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544500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5013360"/>
            <a:ext cx="1873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ь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а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744-EFFE-4E93-AC3C-66B436C99E23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65E00-D441-4652-AEF9-AFB06C09D8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538200"/>
            <a:ext cx="8353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одн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щита от внешней конкуренции способствует консервации технологической отсталости местных предприятий, которые не имеют стимулов для снижения издержек производства. Сохранение пошлин препятствует развитию международной торговли. По оценкам ВТО, снижение пошлин приведет к росту мировой торговли на 12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друг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пошлины способствуют развитию молодых отраслей национальной экономики, созданию новых рабочих мест. Государство получает стабильные доходы от таможенного обложения, что дает возможность выполнять социальные програм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ортные пошлины в России выше среднеевропейских, так как при снижении пошлин значительная часть отечественных предприятий обанкротится. Для снижения пошлин необходим подъем эконом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524520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165564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10E-32A9-46F1-8D8D-F3E1FADB7A8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16C72-3E1C-4EF7-BE78-D1877CA6F3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549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видностью импортных пошлин являются антидемпинговые пошлины. Они устанавливаются для борьбы с демпин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484280"/>
            <a:ext cx="230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мпин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1413000"/>
            <a:ext cx="568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5f5f5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ановление искусственно заниженных цен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ируемые товары для достиж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тноспособности на внешних рын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068640"/>
            <a:ext cx="835344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уютс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тарифные инструмен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меры, не связанные с установлением пошлин: установление импортных квот, т.е. количественных ограничений на ввоз определенных товаров, установление жестких стандартов и технических условий для импортных това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имулирования экспорта применяются государственные субсидии, льготные кредиты экспортерам и иностранным покупателям, страхование коммерческих рис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могут возникнуть и возникают «стальные», «автомобильные», «куриные» и др. торговые вой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6D0C-A2D3-4A5C-B0CA-006BDF919E07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5404F-31F1-4D44-96AA-A0A8E2E65F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еждународное регулирование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1989000"/>
            <a:ext cx="79930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Всемирной торговой организацией (ВТО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преемницей Генерального соглашения по тарифам и торговле с 1995г. Членами ВТО являются 140 государ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Основные принципы В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ация торговли путем постоянного снижения ставок таможенных пошли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аз от нетарифных ограничени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дискриминационный характер торговл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блюдение правил торговли услугами и объектами интеллектуальной соб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едет переговоры о вступлении в В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8A4-F19F-4A3B-B7F7-E5CA7450B9B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52EC9-ED9A-4484-A093-A46C47C8B0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628640"/>
            <a:ext cx="8353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уществление международных расчетов предполагает использование валю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алют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нимается любая национальная денежная единица. Термин «валюта» применяется для обозначения денежных знаков иностранных государств и платежных средств, выраженных в тех или иных национальных денежных единицах и используемых в международных расчет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3860640"/>
            <a:ext cx="2228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лютны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645000"/>
            <a:ext cx="568944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а устойчивых экономических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онных отношений, возникающих в связи 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плей-продажей иностранных валю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62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лютный рынок существует, так нет единых денег, обязательных для приема во всех государст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8B2-3110-4265-9AD5-41FA1BC0CF0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5B6A8-ECB7-469F-9481-D78B8E50CC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92280"/>
            <a:ext cx="82803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ые валютные рынки расположены более чем в 25 международных финансовых центрах, среди которых выделяются Лондон, Нью-Йорк, Токио, Париж, Цюрих, Франкфурт-на-Майне, Гонконг, Сингапур, Бахрей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ажнейшие операторы на международном валютном рынке – банки, особенно транснациональные. Покупают и продают валюту предприятия, участвующие во внешнеэкономической деятельности, валютные органы государства, частные л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сштабы: более 1 трлн долл. В д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национальном валютном рынке операции производятся в границах территории страны в соответствии с законами данного государства. Центральный банк устанавливает курс национальной валюты в отношении валют зарубежных ст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5157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алютный кур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4797360"/>
            <a:ext cx="4969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cc66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Цена денежной единицы одной стра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раженная в иностранных денеж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 или международных расчет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7C6-6023-478E-8EED-075D7986C6B8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E9FB0-2F19-4CC7-B070-35DFD23295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49360"/>
            <a:ext cx="770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спрос и предложение валют непрерывно меняется, валютный курс нестабилен. Его фиксация на определенную дату банками или валютной биржей называется котиров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ямая котировка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– к единице иностранной валюты приравнивается то или иное количество национальных денежных един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свенная котировк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– единица национально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алюты приравнивается к определенному количеству иностранной валю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09E-6A4C-4A44-B117-6F3ECCB56F9B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ECB3D-F1D6-4207-A515-BDBB70B06C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8056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меняются курсы валю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05264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ка курса определяется сдвигами в соотношениях цен одинаковых «корзин» товаров на внутренних рынках. Например: предположим, что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75 €, цена компьютера, который заменяет в данном случае корзину товаров, в США составляет 1000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 Германии – 750 €. Если в Германии компьютеры подорожают до 800€, то будет выгоден их экспорт из США, так как при курсе 0,75€ за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жно будет продать его в Германии за 800 € и поменять их на 10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ибыль составит 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 принимая в расчет  транспортировку и другие расходы. Это приведет к росту спроса на доллары для закупок компьютеров в США, и курс доллара вырастет, допустим, до 0,85 €. В таком случае станет выгоден их экспорт из Германии, выгода на одной сделке составит 50 €. Это приведет к росту спроса на евро. Равновесие установится при курсе 0,80 евро за один доллар. Этот курс будет отражать новое соотношение цен компьютеров в США и Германии. Таким образом, курс валюты зависит от темпов инфляции в стран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урса определяется изменениями в динамике экспорта и импорта страны. Например, чем больше экспорт, тем больше спрос за границей на валюту этой страны, тем выше ее курс. Рост импорта вызывает рост спроса на иностранную валюту и ослабление национальной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F92-146A-4FA0-AAE3-65F1B58D2F4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022FF-A9A8-467E-BDEF-D44EE1D7D6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16:07Z</dcterms:created>
  <dc:creator>Надежда</dc:creator>
  <dc:description/>
  <dc:language>en-US</dc:language>
  <cp:lastModifiedBy>Надежда</cp:lastModifiedBy>
  <dcterms:modified xsi:type="dcterms:W3CDTF">2009-05-26T08:09:07Z</dcterms:modified>
  <cp:revision>4</cp:revision>
  <dc:subject/>
  <dc:title>Внешнеторговая поли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